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13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BCF-CBD9-41FA-9CA5-69A03FA6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AC6-C5A1-4D3D-AFC0-7F7C80D8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B82-5E52-4F75-ABEF-8C7E0F1A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034-5E91-40A0-8B27-0A480272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29E7-D64C-440C-93C0-9E4FAB0F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82B0-FC90-4245-AD21-771A2F4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22D-D273-439E-B87C-85F0E19E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34E5-013A-4ED3-BA1D-F6E24F2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E0FD-DE02-4DC3-B52E-948FB5A8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8448-56B1-4427-8477-C44484CF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6F9A-CC89-4107-8E53-006C938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6AD-8203-4753-BDB2-2CF6246A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1168-D2F9-41C0-A190-AB240764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CB5F-6F4C-4B5B-A7D3-5EF7515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7705-10FE-44D0-9BCD-2160A791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0EEC-C86C-4936-9EBC-CC935B7E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BD86-2A2E-4390-A730-856A7AA2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1C35-9C77-4AB0-BC0F-E7A2085E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E253-BC5D-4AA2-B82B-1911539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E5EC-8990-4E6C-995B-1F0E9825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D095-1C63-4E2B-BC2A-E0D6763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08E2-6AB5-4897-B05B-E80388E6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991-5285-4F19-A334-E916F46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92E2-F4BC-41C4-BE36-633B661B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0480-1802-42F8-89E1-4D8FF69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DC9A-9E6C-46BB-9241-3CACF08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8499-61E7-4E67-8005-28B17DF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1F38-2883-4A0B-AE38-216E8A5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D1DD-DD7B-43B1-BB5B-E0DED19A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B8A9-0702-44BD-B315-1826168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300A-693B-4574-B821-A5311E23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DE08-453B-4541-86D3-B0EFFEB3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25C0-F69B-47C1-8255-41503D95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AC1-B9A3-4176-A3A8-F7E4AF4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8BC1-0507-4F01-960C-1BDD311C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EA04-4B86-4054-BE13-DEB8CE9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4A39-7A98-42EA-A143-DC15C07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6838-F393-4EDC-A58B-AA31520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20F7-4C69-48DF-8B99-EA117081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50D6-05F2-4FF6-82D5-34795E6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A61D-1812-4A61-92D7-7D945CB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43FA-ABF1-4738-98DB-B56A18AA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9700-8DC5-4802-BF36-CAE287D0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D727-DF52-47B7-B8AE-B402D56E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6FC-117C-49B9-9B69-87D847E9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E5FC8-A94A-4EB0-A70C-7D80D8F5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4A8C-C67C-4C66-A38A-84F8828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5008B-69C8-4221-9546-34D6408B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54C6-B4C9-4004-A497-0E57646B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58B54-9FDB-481B-AB3D-F693D386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F5F9-82FE-48F8-ACF2-1307BA0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FE6C-C1DF-4C5C-A7BA-8E0229E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52B1-4DCC-4B66-8227-B4B866F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9F0D-1D66-4D98-A5BE-B4286C9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D8E1-CB1C-495B-BEB6-344C19F9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774-C78B-4589-A7B0-40EF1DB0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5A71-6636-4F87-A96E-2F1E35AC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C5E0-A8C7-4EC4-9FEC-8A73E892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B4B6-DF3A-46C3-B027-9E36DB2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BDCB-CA41-4EC8-BA03-23BC35CC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F21D-53DC-4EA1-A9FB-52130A52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F09D-0D7B-4E4D-8315-47855873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66C1F-AB75-4219-A8D5-86328F18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FFAB-258A-4CA9-A9C8-4FBDFAA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EAB1-EDE3-471D-BFCC-3EE15262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82D2A-4203-4377-9459-C028E37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221-2FF2-48EA-B0DB-6B313FB6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D721-960D-432C-B732-9FAAD69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A6C9-68A5-45D8-9CF6-D0840E52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EC6E-DE4A-44BD-B6D6-A6230034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91A-925B-423A-965E-A845BCA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2FF-9D74-412F-9642-9C44F01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BCDC-CD42-4001-8F62-F124A70F2C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8B8-363F-458A-B5FC-6C15C78D16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A15-5AFB-4C03-8118-9FF15184E3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4E2F-E5DF-4817-9102-E4900AAA24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CFEB-F3A9-47E6-B992-48EE9A88B4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33BB-C550-4DD6-8DA8-CF3ADBD4F3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" Target="slide17.xml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682560" y="1474920"/>
            <a:ext cx="846792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440" y="42861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Проверила: Поберезкая В.Ф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Выполнила: студентка 4 курс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642 группа фПМН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  <a:ea typeface="Arial"/>
              </a:rPr>
              <a:t>Вокуева О.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3571920" y="5786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ктывкар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3" name="Picture 13" descr="C:\Users\sasa\Desktop\презентация\photo003.jpg"/>
          <p:cNvPicPr/>
          <p:nvPr/>
        </p:nvPicPr>
        <p:blipFill>
          <a:blip r:embed="rId2"/>
          <a:stretch/>
        </p:blipFill>
        <p:spPr>
          <a:xfrm>
            <a:off x="1928880" y="1785960"/>
            <a:ext cx="5392800" cy="4151160"/>
          </a:xfrm>
          <a:prstGeom prst="rect">
            <a:avLst/>
          </a:prstGeom>
          <a:ln w="0">
            <a:noFill/>
          </a:ln>
        </p:spPr>
      </p:pic>
      <p:sp>
        <p:nvSpPr>
          <p:cNvPr id="364" name="Выгнутая вверх стрелка 1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низ стрелка 1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Штриховая стрелка вправо 17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9" name="Picture 2" descr="C:\Users\sasa\Desktop\презентация\photo005.jpg"/>
          <p:cNvPicPr/>
          <p:nvPr/>
        </p:nvPicPr>
        <p:blipFill>
          <a:blip r:embed="rId2"/>
          <a:stretch/>
        </p:blipFill>
        <p:spPr>
          <a:xfrm>
            <a:off x="1714680" y="1357200"/>
            <a:ext cx="5732280" cy="4413240"/>
          </a:xfrm>
          <a:prstGeom prst="rect">
            <a:avLst/>
          </a:prstGeom>
          <a:ln w="0">
            <a:noFill/>
          </a:ln>
        </p:spPr>
      </p:pic>
      <p:sp>
        <p:nvSpPr>
          <p:cNvPr id="370" name="Выгнутая вверх стрелка 4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Выгнутая вниз стрелка 5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Штриховая стрелка вправо 6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5" name="Picture 2" descr="C:\Users\sasa\Desktop\презентация\photo007.jpg"/>
          <p:cNvPicPr/>
          <p:nvPr/>
        </p:nvPicPr>
        <p:blipFill>
          <a:blip r:embed="rId2"/>
          <a:stretch/>
        </p:blipFill>
        <p:spPr>
          <a:xfrm>
            <a:off x="2286000" y="1452600"/>
            <a:ext cx="4159080" cy="5405400"/>
          </a:xfrm>
          <a:prstGeom prst="rect">
            <a:avLst/>
          </a:prstGeom>
          <a:ln w="0">
            <a:noFill/>
          </a:ln>
        </p:spPr>
      </p:pic>
      <p:sp>
        <p:nvSpPr>
          <p:cNvPr id="376" name="Штриховая стрелка вправо 4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1" name="Picture 2" descr="C:\Users\sasa\Desktop\презентация\photo008.jpg"/>
          <p:cNvPicPr/>
          <p:nvPr/>
        </p:nvPicPr>
        <p:blipFill>
          <a:blip r:embed="rId2"/>
          <a:stretch/>
        </p:blipFill>
        <p:spPr>
          <a:xfrm>
            <a:off x="2071800" y="1857240"/>
            <a:ext cx="5726160" cy="3865680"/>
          </a:xfrm>
          <a:prstGeom prst="rect">
            <a:avLst/>
          </a:prstGeom>
          <a:ln w="0">
            <a:noFill/>
          </a:ln>
        </p:spPr>
      </p:pic>
      <p:sp>
        <p:nvSpPr>
          <p:cNvPr id="382" name="Штриховая стрелка вправо 4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7" name="Picture 4" descr="C:\Users\sasa\Desktop\презентация\photo025.jpg"/>
          <p:cNvPicPr/>
          <p:nvPr/>
        </p:nvPicPr>
        <p:blipFill>
          <a:blip r:embed="rId2"/>
          <a:stretch/>
        </p:blipFill>
        <p:spPr>
          <a:xfrm>
            <a:off x="5000760" y="1143000"/>
            <a:ext cx="3120840" cy="4056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sasa\Desktop\презентация\photo021.jpg"/>
          <p:cNvPicPr/>
          <p:nvPr/>
        </p:nvPicPr>
        <p:blipFill>
          <a:blip r:embed="rId3"/>
          <a:stretch/>
        </p:blipFill>
        <p:spPr>
          <a:xfrm>
            <a:off x="714240" y="1928880"/>
            <a:ext cx="3121200" cy="4056120"/>
          </a:xfrm>
          <a:prstGeom prst="rect">
            <a:avLst/>
          </a:prstGeom>
          <a:ln w="0">
            <a:noFill/>
          </a:ln>
        </p:spPr>
      </p:pic>
      <p:sp>
        <p:nvSpPr>
          <p:cNvPr id="389" name="Штриховая стрелка вправо 7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Выгнутая вверх стрелка 8"/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Выгнутая вниз стрелка 9"/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Users\sasa\Desktop\презентация\photo010.jpg"/>
          <p:cNvPicPr/>
          <p:nvPr/>
        </p:nvPicPr>
        <p:blipFill>
          <a:blip r:embed="rId2"/>
          <a:stretch/>
        </p:blipFill>
        <p:spPr>
          <a:xfrm>
            <a:off x="5143680" y="1357200"/>
            <a:ext cx="3452760" cy="4481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sasa\Desktop\презентация\photo012.jpg"/>
          <p:cNvPicPr/>
          <p:nvPr/>
        </p:nvPicPr>
        <p:blipFill>
          <a:blip r:embed="rId3"/>
          <a:stretch/>
        </p:blipFill>
        <p:spPr>
          <a:xfrm>
            <a:off x="714240" y="1071720"/>
            <a:ext cx="3775320" cy="4905360"/>
          </a:xfrm>
          <a:prstGeom prst="rect">
            <a:avLst/>
          </a:prstGeom>
          <a:ln w="0">
            <a:noFill/>
          </a:ln>
        </p:spPr>
      </p:pic>
      <p:sp>
        <p:nvSpPr>
          <p:cNvPr id="395" name="Штриховая стрелка вправо 5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Выгнутая вверх стрелка 6"/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Выгнутая вниз стрелка 7"/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2" descr="C:\Users\sasa\Desktop\презентация\photo017.jpg"/>
          <p:cNvPicPr/>
          <p:nvPr/>
        </p:nvPicPr>
        <p:blipFill>
          <a:blip r:embed="rId2"/>
          <a:stretch/>
        </p:blipFill>
        <p:spPr>
          <a:xfrm>
            <a:off x="4786200" y="2214720"/>
            <a:ext cx="4291200" cy="3301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sasa\Desktop\презентация\photo018.jpg"/>
          <p:cNvPicPr/>
          <p:nvPr/>
        </p:nvPicPr>
        <p:blipFill>
          <a:blip r:embed="rId3"/>
          <a:stretch/>
        </p:blipFill>
        <p:spPr>
          <a:xfrm>
            <a:off x="428760" y="1714680"/>
            <a:ext cx="3857400" cy="2970000"/>
          </a:xfrm>
          <a:prstGeom prst="rect">
            <a:avLst/>
          </a:prstGeom>
          <a:ln w="0">
            <a:noFill/>
          </a:ln>
        </p:spPr>
      </p:pic>
      <p:sp>
        <p:nvSpPr>
          <p:cNvPr id="402" name="Штриховая стрелка вправо 5"/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Выгнутая вниз стрелка 7"/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714400" y="135720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ое настроение у тебя после просмотра презентаци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Прямоугольник 7" descr=""/>
          <p:cNvPicPr/>
          <p:nvPr/>
        </p:nvPicPr>
        <p:blipFill>
          <a:blip r:embed="rId2"/>
          <a:stretch/>
        </p:blipFill>
        <p:spPr>
          <a:xfrm>
            <a:off x="-133200" y="3144960"/>
            <a:ext cx="4125600" cy="114120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8" descr=""/>
          <p:cNvPicPr/>
          <p:nvPr/>
        </p:nvPicPr>
        <p:blipFill>
          <a:blip r:embed="rId3"/>
          <a:stretch/>
        </p:blipFill>
        <p:spPr>
          <a:xfrm>
            <a:off x="5638680" y="3213000"/>
            <a:ext cx="33465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1.Т.Я Шпикалова, Л.В. Ершова Изобразительное искусство, учебник 3 класс – М., Просвещение, 2002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2.Т.Я Шпикалова, Л.В. Ершова Изобразительное искусство, творческая тетрадь 3 класс – М., Просвещение, 2004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3.Т.Я Шпикалова, Изобразительное искусство, методическое пособие к учебнику 3 класс – М., Просвещение, 2002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http://ru.wikipedia.org/wiki/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майол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http: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/</a:t>
            </a: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yandex.ru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виды керам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http: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/</a:t>
            </a: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Arial"/>
              </a:rPr>
              <a:t>google.com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/гжельская роспись майол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86080" y="1145880"/>
            <a:ext cx="6143040" cy="4501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7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1066680"/>
            <a:ext cx="5888160" cy="120672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4" descr=""/>
          <p:cNvPicPr/>
          <p:nvPr/>
        </p:nvPicPr>
        <p:blipFill>
          <a:blip r:embed="rId3"/>
          <a:stretch/>
        </p:blipFill>
        <p:spPr>
          <a:xfrm>
            <a:off x="-249120" y="1785960"/>
            <a:ext cx="9343800" cy="11462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5" descr=""/>
          <p:cNvPicPr/>
          <p:nvPr/>
        </p:nvPicPr>
        <p:blipFill>
          <a:blip r:embed="rId4"/>
          <a:stretch/>
        </p:blipFill>
        <p:spPr>
          <a:xfrm>
            <a:off x="-262080" y="2651040"/>
            <a:ext cx="10009440" cy="12016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6" descr=""/>
          <p:cNvPicPr/>
          <p:nvPr/>
        </p:nvPicPr>
        <p:blipFill>
          <a:blip r:embed="rId5"/>
          <a:stretch/>
        </p:blipFill>
        <p:spPr>
          <a:xfrm>
            <a:off x="334800" y="3597120"/>
            <a:ext cx="8321760" cy="184644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7" descr=""/>
          <p:cNvPicPr/>
          <p:nvPr/>
        </p:nvPicPr>
        <p:blipFill>
          <a:blip r:embed="rId6"/>
          <a:stretch/>
        </p:blipFill>
        <p:spPr>
          <a:xfrm>
            <a:off x="500040" y="4784760"/>
            <a:ext cx="7156440" cy="120816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9240" y="5754600"/>
            <a:ext cx="4662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501920" y="2237400"/>
            <a:ext cx="5675040" cy="2949480"/>
          </a:xfrm>
          <a:prstGeom prst="rect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10173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Майолика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( 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Maiolica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 — Мальорка) — от итал. разновидность керамики, изготавливаемой из обожжённой глины с использованием расписной глазури. изготовляются как декоративные панно, наличники, изразцы и посу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Штриховая стрелка вправо 3">
            <a:hlinkClick r:id="rId1" action="ppaction://hlinksldjump"/>
          </p:cNvPr>
          <p:cNvSpPr/>
          <p:nvPr/>
        </p:nvSpPr>
        <p:spPr>
          <a:xfrm rot="16200000">
            <a:off x="856440" y="535860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1420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Производство керамических изделий из обожжённой цветной глины с крупнопористым черепком, покрытых глазурью, существовало уже несколько тысячелетий назад в Египте и  Вавило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Штриховая стрелка вправо 3">
            <a:hlinkClick r:id="rId2" action="ppaction://hlinksldjump"/>
          </p:cNvPr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гнутая вверх стрелка 4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гнутая вниз стрелка 5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sasa\Desktop\презентация\Новая папка\Безымянный.jpg"/>
          <p:cNvPicPr/>
          <p:nvPr/>
        </p:nvPicPr>
        <p:blipFill>
          <a:blip r:embed="rId1"/>
          <a:stretch/>
        </p:blipFill>
        <p:spPr>
          <a:xfrm>
            <a:off x="2571840" y="396540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42560" cy="1305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Италию майолика попадала из мавританской Испании через остров Мальорку, от названия которого и произошёл термин «майолика». Техника получила распространение в Италии в XIV в. и достигла расцвета в XVII 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Штриховая стрелка вправо 4">
            <a:hlinkClick r:id="rId3" action="ppaction://hlinksldjump"/>
          </p:cNvPr>
          <p:cNvSpPr/>
          <p:nvPr/>
        </p:nvSpPr>
        <p:spPr>
          <a:xfrm rot="16200000">
            <a:off x="678600" y="6036480"/>
            <a:ext cx="57168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85840" y="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Крупным центром майолики ещё в XVII веке был Ярославль, где производились поливные изразцы для украшения стен храмов и интерьеров дом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42920" y="2714760"/>
            <a:ext cx="3314520" cy="3857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5357880" y="2000160"/>
            <a:ext cx="3286080" cy="3643560"/>
          </a:xfrm>
          <a:prstGeom prst="rect">
            <a:avLst/>
          </a:prstGeom>
          <a:ln w="0">
            <a:noFill/>
          </a:ln>
        </p:spPr>
      </p:pic>
      <p:sp>
        <p:nvSpPr>
          <p:cNvPr id="341" name="Штриховая стрелка вправо 5">
            <a:hlinkClick r:id="rId3" action="ppaction://hlinksldjump"/>
          </p:cNvPr>
          <p:cNvSpPr/>
          <p:nvPr/>
        </p:nvSpPr>
        <p:spPr>
          <a:xfrm rot="16200000">
            <a:off x="3535920" y="610740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Выгнутая вверх стрелка 6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гнутая вниз стрелка 7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asa\Desktop\презентация\photo002.jpg"/>
          <p:cNvPicPr/>
          <p:nvPr/>
        </p:nvPicPr>
        <p:blipFill>
          <a:blip r:embed="rId2"/>
          <a:stretch/>
        </p:blipFill>
        <p:spPr>
          <a:xfrm>
            <a:off x="1928880" y="1571760"/>
            <a:ext cx="354312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Выгнутая вверх стрелка 6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Выгнутая вниз стрелка 7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Штриховая стрелка вправо 8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asa\Desktop\презентация\8.jpg"/>
          <p:cNvPicPr/>
          <p:nvPr/>
        </p:nvPicPr>
        <p:blipFill>
          <a:blip r:embed="rId2"/>
          <a:srcRect l="11527" t="67241" r="59867" b="0"/>
          <a:stretch/>
        </p:blipFill>
        <p:spPr>
          <a:xfrm>
            <a:off x="285840" y="1500120"/>
            <a:ext cx="4567320" cy="43401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5143680" y="1357200"/>
            <a:ext cx="3786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эскизам  художников опытные мастера-модельщики на специальный станках вытачивают гипсовые модели будущих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Штриховая стрелка вправо 7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Традиционная роспись - выполненные от руки растительные и геометрические орнаменты, нанесенные быстрыми, сочными мазками кисти. Используются цвета: жёлтый, зелёный, синий, коричневый, красны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7" name="Picture 2" descr="C:\Users\sasa\Desktop\презентация\Новая папка\Безымянный1.jpg"/>
          <p:cNvPicPr/>
          <p:nvPr/>
        </p:nvPicPr>
        <p:blipFill>
          <a:blip r:embed="rId2"/>
          <a:stretch/>
        </p:blipFill>
        <p:spPr>
          <a:xfrm>
            <a:off x="2071800" y="3500280"/>
            <a:ext cx="4471920" cy="3160800"/>
          </a:xfrm>
          <a:prstGeom prst="rect">
            <a:avLst/>
          </a:prstGeom>
          <a:ln w="0">
            <a:noFill/>
          </a:ln>
        </p:spPr>
      </p:pic>
      <p:sp>
        <p:nvSpPr>
          <p:cNvPr id="358" name="Выгнутая вверх стрелка 5">
            <a:hlinkClick r:id="" action="ppaction://hlinkshowjump?jump=nextslide"/>
          </p:cNvPr>
          <p:cNvSpPr/>
          <p:nvPr/>
        </p:nvSpPr>
        <p:spPr>
          <a:xfrm>
            <a:off x="6429240" y="5929200"/>
            <a:ext cx="1143000" cy="642960"/>
          </a:xfrm>
          <a:custGeom>
            <a:avLst/>
            <a:gdLst>
              <a:gd name="textAreaLeft" fmla="*/ 225360 w 1143000"/>
              <a:gd name="textAreaRight" fmla="*/ 83736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22" hR="21600" stAng="10800000" swAng="5400000"/>
                <a:lnTo>
                  <a:pt x="11559" y="0"/>
                </a:lnTo>
                <a:arcTo wR="8522" hR="21600" stAng="-5400000" swAng="3407871"/>
                <a:lnTo>
                  <a:pt x="21329" y="16200"/>
                </a:lnTo>
                <a:lnTo>
                  <a:pt x="18563" y="21600"/>
                </a:lnTo>
                <a:lnTo>
                  <a:pt x="15254" y="16200"/>
                </a:lnTo>
                <a:lnTo>
                  <a:pt x="16773" y="16200"/>
                </a:lnTo>
                <a:arcTo wR="8522" hR="21600" stAng="-1992129" swAng="-3162681"/>
                <a:lnTo>
                  <a:pt x="10041" y="346"/>
                </a:lnTo>
                <a:arcTo wR="8522" hR="21600" stAng="-5645191" swAng="-5154809"/>
                <a:close/>
              </a:path>
              <a:path fill="darkenLess" w="21600" h="21600">
                <a:moveTo>
                  <a:pt x="0" y="21600"/>
                </a:moveTo>
                <a:arcTo wR="8522" hR="21600" stAng="10800000" swAng="5400000"/>
                <a:lnTo>
                  <a:pt x="8522" y="0"/>
                </a:lnTo>
                <a:arcTo wR="8522" hR="21600" stAng="-5400000" swAng="245191"/>
                <a:lnTo>
                  <a:pt x="10041" y="346"/>
                </a:lnTo>
                <a:arcTo wR="8522" hR="21600" stAng="-5645191" swAng="-515480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ыгнутая вниз стрелка 6">
            <a:hlinkClick r:id="" action="ppaction://hlinkshowjump?jump=previousslide"/>
          </p:cNvPr>
          <p:cNvSpPr/>
          <p:nvPr/>
        </p:nvSpPr>
        <p:spPr>
          <a:xfrm>
            <a:off x="7715160" y="5929200"/>
            <a:ext cx="1143000" cy="571680"/>
          </a:xfrm>
          <a:custGeom>
            <a:avLst/>
            <a:gdLst>
              <a:gd name="textAreaLeft" fmla="*/ 232200 w 1143000"/>
              <a:gd name="textAreaRight" fmla="*/ 839520 w 114300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Штриховая стрелка вправо 7">
            <a:hlinkClick r:id="rId3" action="ppaction://hlinksldjump"/>
          </p:cNvPr>
          <p:cNvSpPr/>
          <p:nvPr/>
        </p:nvSpPr>
        <p:spPr>
          <a:xfrm rot="16200000">
            <a:off x="678600" y="5964480"/>
            <a:ext cx="57132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8:18:44Z</dcterms:created>
  <dc:creator>sasa</dc:creator>
  <dc:description/>
  <dc:language>en-US</dc:language>
  <cp:lastModifiedBy>Admin</cp:lastModifiedBy>
  <dcterms:modified xsi:type="dcterms:W3CDTF">2011-03-21T20:03:36Z</dcterms:modified>
  <cp:revision>16</cp:revision>
  <dc:subject/>
  <dc:title>ГЖЕЛЬСКАЯ РОСПИСЬ МАЙОЛИКА</dc:title>
</cp:coreProperties>
</file>